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799-EF0B-478B-9B58-535BA529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9E5-CD9E-452D-B31E-A91AB58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1FB-DDF3-4E8C-B51B-25F822D1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3C7-BDFF-400C-8E25-2EF65ED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60E-B9CA-42C2-A2F6-6E5A246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281-A2FB-420E-807E-0A5A5D0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E03-B06A-477C-8121-6E7E72F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BA2-E4A6-4077-8753-344DA7F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321-BDB0-47DF-9C56-EE99696B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FA0-AE07-4179-8B50-B5E7331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4B6-446E-484A-81A9-8B50588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DBD-E42A-430B-8324-076AA3C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1FE-F816-4F91-924F-4DC84674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Psychiatric compla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st hx of mental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pressive or man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sychot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urot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 of mental illness, epilepsy or suicidal at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ensic record, suicidal attempt or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ries: -could not resume muscle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olonged hospitaliz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ssed from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sult Psychiatri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g Foo Ch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/31y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ing in Tseung Kwan O with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Engin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ef Compl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ioration of Lower Limb weakness 9 day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Present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ted to PWH medical ward 1 month ago for generalised maculopapular rash for 1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ticarial like, pru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ith low grade fever, diffuse muscle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walk or move four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eeks before admission, travelled to Tung K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d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/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eneralised Rash: 2.5cm bli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eneralised muscl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neuro: power UL 4/5  LL 3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ne and reflex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-going plantar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VS,Chest, Abdomen: unremark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ed E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 brain, CSF, EEG: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on screen: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matologist’s opinion: Acute Urtic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logist: No objective evidence of acute neuropathy, myopathy, spinal cord disease or CNS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: Rash subsided, power improved, so referred to SH for rehabilitation(supportive treatment and physiotherapy) 2 weeks after ad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days ago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mitted to PWH medical ward due to sudden onset of generalised muscle weakness and convul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 consciousness and 3 episodes of L focal twitching and eye rolling at A&amp;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catheter was inse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ined consciousness after 2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E and 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uscle wa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: UL – 4/5, LL 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ateral LL brisk reflex esp on L side, down going pl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t: could not 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brain, LP, EEG, EMG: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tion screen :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3:58:37Z</dcterms:created>
  <dc:creator>student</dc:creator>
  <dc:description/>
  <dc:language>en-US</dc:language>
  <cp:lastModifiedBy>student</cp:lastModifiedBy>
  <dcterms:modified xsi:type="dcterms:W3CDTF">2001-12-14T05:09:48Z</dcterms:modified>
  <cp:revision>9</cp:revision>
  <dc:subject/>
  <dc:title>Presentation</dc:title>
</cp:coreProperties>
</file>