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0AD-13A2-4CC9-AA38-CDCAB960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3404-98EB-44D6-B49D-20EED004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80B-9F5B-4D36-8DB2-BBDAFB51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C94E-8942-4942-A4E8-09158701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47A-F953-4E26-B417-4FCA5F5E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F269-925C-4796-9193-A1048F1D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FA5-A3A3-4E52-A473-3A72B54B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616F-6D32-4A09-862C-3B96D363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DFD-FFBA-496E-BAD7-F6013B36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8102-0E1D-4CBC-AFAA-3AB65ED4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04C6-7939-419B-A625-7001B9AE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7A7-591F-44EF-8682-63E71365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2DB9-275E-4FCA-B27F-1D76B7590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 H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2y.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red from Medical Ward to Psychiatric Ward 4 day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morbid person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ntal State Exa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essed neatly, good hyg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eye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oope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od and A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depressed subje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lunted affec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Poverty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Rate and volume decr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Monoton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Relevant and coh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No spontaneous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tic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ersecutory de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uditory hallucination (she refused to talk about the exper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tic symptoms: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gnitive Examination: could not b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s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T brain and LP: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D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acute transient psychotic dis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tic featu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Auditory halluc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elusion of pers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uration: 1 week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Absence of organic 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Depressive Psych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ssive sympto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w m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somnia with early morning 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ecreased appet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unknown duratio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refore cannot make the dx of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days ago: conflict with family members on minor affai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away from home and stayed outside for 3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or memories, couldn’t record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tted to medical ward one week before because of diffused type of head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 of consciousness of unknown d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history of head inj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vert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ausea, vom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-mut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mood ( unknown du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omnia with early morning wa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ap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ecuted by and followed by g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ing voices of gh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t Psychiatric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remark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orensic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uicidal attempt or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t Medical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remark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mily H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ing with her husband, 2 children, mother and s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: 15y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ughter: 12y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y Psychiatric History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n and raised in Thai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e to Hong Kong in 199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 : Primary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al History: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dh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drinker non-smoker, no hx of drug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 H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er: quitted recently for unknown rea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 job: textile factory wor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09:23:42Z</dcterms:created>
  <dc:creator>Faculty of Medicine</dc:creator>
  <dc:description/>
  <dc:language>en-US</dc:language>
  <cp:lastModifiedBy>student</cp:lastModifiedBy>
  <dcterms:modified xsi:type="dcterms:W3CDTF">2001-12-14T04:56:55Z</dcterms:modified>
  <cp:revision>22</cp:revision>
  <dc:subject/>
  <dc:title>PowerPoint Presentation</dc:title>
</cp:coreProperties>
</file>